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DC9-A9B0-4A66-9325-24D3273A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84A-8E0B-4E75-8173-3F09A8D9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286-3F78-4A1B-84A6-32065598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750-A66B-4542-9C96-59D3BD9B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04AE-1270-4ADD-AC1D-8430F1F0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3E48-47A6-4971-B79D-4D7477AE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FF95-8471-479F-9D39-46E00E47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1D7D-D662-41E4-B7B8-B441FD69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55F5-E532-4639-B426-5BD96241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8E3D-94EF-4503-935D-23DBDAB6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A55E-F658-44F7-B8F0-B00C6EA7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C24-CCB3-4030-B6D1-1D7772E9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7C3C-8AE7-4BF0-A47D-B3F6B71F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9D31-1A53-472C-9F30-5F97B670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E8D3-ED31-4A51-9105-B74C56BC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51A3-9982-474E-A13B-E3222231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E85A-2BC7-412E-8317-49193C8F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CC3-231B-457B-B4ED-EA72BB01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933-CCFE-464E-BF3E-C4695607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2AA-E4EF-428F-9432-C3F14B12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270-F3DC-4DAF-BF94-86629ABD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00E-D70E-4A2D-8560-45779BD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4AC-FA15-4A30-99E3-F501ABB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F62-50AB-4C37-9ECC-9327A9D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A072-F06A-4125-BFF3-B33BF2793DB1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D9A8-0484-448D-A5F0-D3C9AA33D777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sarist Russ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tures by Sergei Mikhailovich Prokudin-Gorskii , taken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c8ff"/>
                </a:solidFill>
                <a:uFillTx/>
                <a:latin typeface="Tahoma"/>
              </a:rPr>
              <a:t>http://www.loc.</a:t>
            </a:r>
            <a:r>
              <a:rPr b="0" lang="en-US" sz="2800" spc="-1" strike="noStrike" u="sng">
                <a:solidFill>
                  <a:srgbClr val="65c8ff"/>
                </a:solidFill>
                <a:uFillTx/>
                <a:latin typeface="Tahoma"/>
              </a:rPr>
              <a:t>gov/exhibits/empire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8880" y="0"/>
            <a:ext cx="8164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20640" y="0"/>
            <a:ext cx="7900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92080" y="0"/>
            <a:ext cx="7358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03360" y="0"/>
            <a:ext cx="7937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9800" y="0"/>
            <a:ext cx="8202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28480" y="0"/>
            <a:ext cx="8087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0"/>
            <a:ext cx="80488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74640" y="0"/>
            <a:ext cx="779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26880" y="0"/>
            <a:ext cx="8488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0"/>
            <a:ext cx="8087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as Tsarist Russia lik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Picture 1: Agricultural, simple equipment - no sign of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0640" y="0"/>
            <a:ext cx="7900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811080" y="0"/>
            <a:ext cx="7520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0080"/>
            <a:ext cx="9144000" cy="665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20640" y="0"/>
            <a:ext cx="7900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44480" y="0"/>
            <a:ext cx="76532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pair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9246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4 pictures that you think are especially interesting/fascin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and paste the slides into a new power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tate each one with what you can tell about Tsarist Russia from the pi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 create an end slide that answers the ques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hat might some of the problems be with using these pictures as evide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an we learn from these pictures about the Russian people/Russia socie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might some of the problems be with using these pictures as evidenc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14680" y="0"/>
            <a:ext cx="5715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-685800" y="2666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30200" y="0"/>
            <a:ext cx="8282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39720" y="0"/>
            <a:ext cx="78645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03360" y="0"/>
            <a:ext cx="7937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74640" y="0"/>
            <a:ext cx="779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09-03T02:26:15Z</dcterms:modified>
  <cp:revision>4</cp:revision>
  <dc:subject/>
  <dc:title>Tsarist Russia</dc:title>
</cp:coreProperties>
</file>